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323F-1F00-4800-9445-589569A1A80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CF8A-B588-4D7B-9E94-60B05818966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12BD8-2E3C-40E7-A72E-B6F9D94AD16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2FF6A-9291-4867-AC51-AD6AFDA63F10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ángulo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ángulo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ángulo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ángulo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0A1-6114-4FFA-9AE4-03673D93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E97-6087-4291-AD54-5047E8E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924-47E4-464C-9EA2-65A1DE33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C84-2A75-45AC-9B12-250DC845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C57-2BDC-4637-99FC-D122540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BDE-F6A7-4665-BEC5-FBDB76F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ACD-C2D9-4F74-86C9-22CEB80D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608-3387-48A8-AA61-F254736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4F9-247E-404C-ADA4-AADDB27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F05-033C-4D03-B653-CF5DC3A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0F3-9473-4DDA-B58B-42160178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B8C-6013-473A-B0DE-B2274F9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313-98B7-4EF0-BA01-3B5FE98C41A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50720" y="44280"/>
            <a:ext cx="84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Ciclo del glioxilato. Localización. Importancia. Biosíntesis del glucógeno. Regulación coordinada entre la degradación y la síntesis del glucógeno.  Costo energétic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35 F no O de VP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CuadroTexto"/>
          <p:cNvSpPr/>
          <p:nvPr/>
        </p:nvSpPr>
        <p:spPr>
          <a:xfrm>
            <a:off x="324000" y="260280"/>
            <a:ext cx="8496000" cy="656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Puede considerarse otra forma de oxidar (aunque solo parcialmente) la glucosa-6-fosfato con producción de CO</a:t>
            </a:r>
            <a:r>
              <a:rPr b="1" lang="es-ES" sz="18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metabólicos para otras v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3399"/>
                </a:solidFill>
                <a:uFillTx/>
                <a:latin typeface="Comic Sans MS"/>
              </a:rPr>
              <a:t>En mamíferos</a:t>
            </a: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ff3399"/>
                </a:solidFill>
                <a:latin typeface="Comic Sans MS"/>
              </a:rPr>
              <a:t>Es muy activa en los tejidos donde se lleva a cabo la síntesis de ácidos grasos y esteroides (utiliza NADPH) glándula mamaria, tejido adiposo, corteza adrenal e hí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18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519120" y="639720"/>
            <a:ext cx="83739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9900"/>
                </a:solidFill>
                <a:uFillTx/>
                <a:latin typeface="Comic Sans MS"/>
              </a:rPr>
              <a:t>En pla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El NADPH ingresa a las mitocondrias vegetales y lleva a la producción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Comic Sans MS"/>
              </a:rPr>
              <a:t>Además NADPH es agente reductor en las síntesis de ácidos grasos e isopreno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Comic Sans MS"/>
              </a:rPr>
              <a:t>La eritrosa-4-P, junto con el fosfoenolpiruvato (de la vía glicolítica), son precursores de la síntesis de los aminoácidos: fenilalanina, tirosina y triptofano, los que luego son precursores de derivados fenólicos como las fitoalexinas, lignina y flavonoides como las antocian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419640" y="4148280"/>
            <a:ext cx="2016000" cy="208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5580000" y="414972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http://4.bp.blogspot.com/-stfPpeu39xE/TyCLsdzXSkI/AAAAAAAANgo/g8LbKDznexk/s320/kernel.jpg"/>
          <p:cNvPicPr/>
          <p:nvPr/>
        </p:nvPicPr>
        <p:blipFill>
          <a:blip r:embed="rId3"/>
          <a:stretch/>
        </p:blipFill>
        <p:spPr>
          <a:xfrm>
            <a:off x="411120" y="4214880"/>
            <a:ext cx="2803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3456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711960" y="1773360"/>
            <a:ext cx="3026160" cy="1295280"/>
            <a:chOff x="3711960" y="1773360"/>
            <a:chExt cx="3026160" cy="1295280"/>
          </a:xfrm>
        </p:grpSpPr>
        <p:sp>
          <p:nvSpPr>
            <p:cNvPr id="53" name="Text Box 5"/>
            <p:cNvSpPr/>
            <p:nvPr/>
          </p:nvSpPr>
          <p:spPr>
            <a:xfrm>
              <a:off x="4434480" y="24926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064120" y="3068640"/>
            <a:ext cx="3393360" cy="657360"/>
            <a:chOff x="5064120" y="3068640"/>
            <a:chExt cx="3393360" cy="657360"/>
          </a:xfrm>
        </p:grpSpPr>
        <p:sp>
          <p:nvSpPr>
            <p:cNvPr id="57" name="Text Box 9"/>
            <p:cNvSpPr/>
            <p:nvPr/>
          </p:nvSpPr>
          <p:spPr>
            <a:xfrm>
              <a:off x="50641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>
              <a:off x="5508360" y="3427560"/>
              <a:ext cx="1584000" cy="288720"/>
            </a:xfrm>
            <a:prstGeom prst="rightArrow">
              <a:avLst>
                <a:gd name="adj1" fmla="val 49454"/>
                <a:gd name="adj2" fmla="val 8686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61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541800" y="3016080"/>
            <a:ext cx="3084120" cy="709920"/>
            <a:chOff x="541800" y="3016080"/>
            <a:chExt cx="3084120" cy="709920"/>
          </a:xfrm>
        </p:grpSpPr>
        <p:sp>
          <p:nvSpPr>
            <p:cNvPr id="65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1262880" y="30160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0"/>
          <p:cNvSpPr/>
          <p:nvPr/>
        </p:nvSpPr>
        <p:spPr>
          <a:xfrm>
            <a:off x="3276720" y="3029040"/>
            <a:ext cx="5224320" cy="971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73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76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80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16"/>
          <p:cNvSpPr/>
          <p:nvPr/>
        </p:nvSpPr>
        <p:spPr>
          <a:xfrm>
            <a:off x="2989440" y="3241800"/>
            <a:ext cx="5368680" cy="104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ángulo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itosol celular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gual que la vía glicolítica.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 células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ambién se lleva a cabo en los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cloroplas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intetiza NADPH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para la síntesis de ácidos grasos, isoprenoides y esteroides (en tejidos animales y vegetales) y para producir ATP (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sólo en las mitocondrias de los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Sintetiza ribosa-5-fosfa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para la síntesis de nucleótidos y ácidos nucle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9900"/>
                </a:solidFill>
                <a:uFillTx/>
                <a:latin typeface="Arial"/>
              </a:rPr>
              <a:t>Provee el intermediario eritrosa-4-fosfato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a síntesis de aminoácidos precursores de </a:t>
            </a: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derivados fenólicos en 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ángulo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FASES DE LA 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</a:t>
            </a:r>
            <a:r>
              <a:rPr b="0" lang="es-ES" sz="3200" spc="-1" strike="noStrike">
                <a:solidFill>
                  <a:srgbClr val="3333ff"/>
                </a:solidFill>
                <a:latin typeface="Arial"/>
              </a:rPr>
              <a:t>1) oxidativ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2) 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,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94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98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99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107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10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11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14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17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122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129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132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135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138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142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143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146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8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149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152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157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161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163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165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166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169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174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177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178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180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1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185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191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194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34 fase oxid de VP"/>
          <p:cNvPicPr/>
          <p:nvPr/>
        </p:nvPicPr>
        <p:blipFill>
          <a:blip r:embed="rId1"/>
          <a:stretch/>
        </p:blipFill>
        <p:spPr>
          <a:xfrm>
            <a:off x="222120" y="1197000"/>
            <a:ext cx="8699760" cy="30988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9"/>
          <p:cNvGrpSpPr/>
          <p:nvPr/>
        </p:nvGrpSpPr>
        <p:grpSpPr>
          <a:xfrm>
            <a:off x="1403280" y="3213000"/>
            <a:ext cx="1081080" cy="1728720"/>
            <a:chOff x="1403280" y="3213000"/>
            <a:chExt cx="1081080" cy="1728720"/>
          </a:xfrm>
        </p:grpSpPr>
        <p:sp>
          <p:nvSpPr>
            <p:cNvPr id="200" name="Rectangle 6"/>
            <p:cNvSpPr/>
            <p:nvPr/>
          </p:nvSpPr>
          <p:spPr>
            <a:xfrm>
              <a:off x="1403280" y="3213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908000" y="3716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324000" y="5033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7"/>
          <p:cNvGrpSpPr/>
          <p:nvPr/>
        </p:nvGrpSpPr>
        <p:grpSpPr>
          <a:xfrm>
            <a:off x="4357800" y="4581360"/>
            <a:ext cx="4522680" cy="847440"/>
            <a:chOff x="4357800" y="4581360"/>
            <a:chExt cx="4522680" cy="847440"/>
          </a:xfrm>
        </p:grpSpPr>
        <p:sp>
          <p:nvSpPr>
            <p:cNvPr id="204" name="Line 10"/>
            <p:cNvSpPr/>
            <p:nvPr/>
          </p:nvSpPr>
          <p:spPr>
            <a:xfrm flipV="1">
              <a:off x="4357800" y="4797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1"/>
            <p:cNvSpPr/>
            <p:nvPr/>
          </p:nvSpPr>
          <p:spPr>
            <a:xfrm>
              <a:off x="4939920" y="4581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alostéricamente por el 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19 Grupo"/>
          <p:cNvGrpSpPr/>
          <p:nvPr/>
        </p:nvGrpSpPr>
        <p:grpSpPr>
          <a:xfrm>
            <a:off x="4384800" y="5072040"/>
            <a:ext cx="2874960" cy="379440"/>
            <a:chOff x="4384800" y="5072040"/>
            <a:chExt cx="2874960" cy="379440"/>
          </a:xfrm>
        </p:grpSpPr>
        <p:sp>
          <p:nvSpPr>
            <p:cNvPr id="207" name="Line 15"/>
            <p:cNvSpPr/>
            <p:nvPr/>
          </p:nvSpPr>
          <p:spPr>
            <a:xfrm flipV="1">
              <a:off x="4384800" y="5235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5152680" y="5072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ff"/>
                  </a:solidFill>
                  <a:latin typeface="Arial"/>
                </a:rPr>
                <a:t>Activada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por 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18 Grupo"/>
          <p:cNvGrpSpPr/>
          <p:nvPr/>
        </p:nvGrpSpPr>
        <p:grpSpPr>
          <a:xfrm>
            <a:off x="4286160" y="5592600"/>
            <a:ext cx="4348800" cy="337320"/>
            <a:chOff x="4286160" y="5592600"/>
            <a:chExt cx="4348800" cy="337320"/>
          </a:xfrm>
        </p:grpSpPr>
        <p:sp>
          <p:nvSpPr>
            <p:cNvPr id="210" name="Text Box 13"/>
            <p:cNvSpPr/>
            <p:nvPr/>
          </p:nvSpPr>
          <p:spPr>
            <a:xfrm>
              <a:off x="5179320" y="5592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</a:t>
              </a: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por la luz en cloroplas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4286160" y="5643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0"/>
          <p:cNvSpPr/>
          <p:nvPr/>
        </p:nvSpPr>
        <p:spPr>
          <a:xfrm>
            <a:off x="691560" y="2602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Your User Name</cp:lastModifiedBy>
  <dcterms:modified xsi:type="dcterms:W3CDTF">2014-05-05T20:49:12Z</dcterms:modified>
  <cp:revision>55</cp:revision>
  <dc:subject/>
  <dc:title>Diapositiva 1</dc:title>
</cp:coreProperties>
</file>